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7132-949F-48FF-BED5-FE13A040A0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4E5B7-6311-4703-B589-506EBD74A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544C6-672C-4DD6-8370-BC543F41D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CE919-C9F5-4A98-9914-0BF73BEFE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14568-EAD3-4BD2-917A-1DDC3FF3D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9D803-66D8-40D1-8500-DCEDED36E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2DD8A-C6FE-43BC-A24F-D2CB656AF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EEF24-CA25-4E3B-AC27-7D6D4A5AC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C7DAF-4CA0-4CE8-B759-A44B98B20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3FA8E-0B22-4360-B0D5-9DB16F463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1EF6A-A9B0-4DB9-8A53-DB87F603D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1EDB2-BC96-49E9-AF29-84559B37A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2438D-0CCE-4CBC-883B-B9DE6FA4B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CCE70-F31A-4571-8770-58CAC3EF3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6E13A-72EE-4DFB-8490-4EF276026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4DEC5-7AF3-4645-996C-7507E419A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995CB-1AFA-46A4-B427-4D890EBEDC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A6C09-142C-4DBC-8F97-3EA1EE3E7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CBA56-0D68-44C1-832A-C6CE0B52E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73730-615B-4D14-BE53-AC38CA4E8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B9DB8-1CE8-435F-9DFB-0C2D0AAE9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AF79D-A9F4-497E-9695-7044CE560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D3776-B936-45E4-8DCB-A5B9230FD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4C07E-EE71-41E5-9672-3F599D61E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94037-767E-47D1-897A-7329EA77F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CD3D-9075-4D71-9926-D84ED468718C}"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74F8-851A-4D87-8D25-BA1486F7F021}"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ewi.ac.uk/englishresources/workunits/ks4/fiction/ofmicemen/smallheath/sample.html"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GB" sz="4200" spc="-1" strike="noStrike">
                <a:solidFill>
                  <a:srgbClr val="ffffff"/>
                </a:solidFill>
                <a:latin typeface="Arial"/>
              </a:rPr>
              <a:t>Exam Questions on </a:t>
            </a:r>
            <a:br>
              <a:rPr sz="4200"/>
            </a:br>
            <a:r>
              <a:rPr b="1" i="1" lang="en-GB" sz="4200" spc="-1" strike="noStrike">
                <a:solidFill>
                  <a:srgbClr val="ffffff"/>
                </a:solidFill>
                <a:latin typeface="Arial"/>
              </a:rPr>
              <a:t>Of Mice and Men</a:t>
            </a:r>
            <a:br>
              <a:rPr sz="4200"/>
            </a:b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EAB English Lit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09480" y="533520"/>
            <a:ext cx="7925040" cy="5486400"/>
          </a:xfrm>
          <a:prstGeom prst="rect">
            <a:avLst/>
          </a:prstGeom>
          <a:noFill/>
          <a:ln w="0">
            <a:noFill/>
          </a:ln>
        </p:spPr>
        <p:txBody>
          <a:bodyPr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am Topic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ck to Table of Content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a:t>
            </a:r>
            <a:r>
              <a:rPr b="0" lang="en-GB" sz="1200" spc="-1" strike="noStrike" u="sng">
                <a:solidFill>
                  <a:srgbClr val="996666"/>
                </a:solidFill>
                <a:uFillTx/>
                <a:latin typeface="Arial"/>
                <a:hlinkClick r:id="rId1"/>
              </a:rPr>
              <a:t>See MODEL ANSWER</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incident where Lennie crushes Curley's hand. What does this incident reveal about each of these two characters?</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haracter do you feel most sorry for in this story? Explain your choice by referring closely to the events of the novel.</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How does Steinbeck create a sense of insecurity in the no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You should write abou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Why some characters may feel insecur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Uses of languag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The contribution of the setting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Other features which create a sense of in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	</a:t>
            </a:r>
            <a:r>
              <a:rPr b="0" i="1" lang="en-GB" sz="2000" spc="-1" strike="noStrike">
                <a:solidFill>
                  <a:srgbClr val="000000"/>
                </a:solidFill>
                <a:latin typeface="Comic Sans MS"/>
              </a:rPr>
              <a:t>Of Mice and Men</a:t>
            </a:r>
            <a:r>
              <a:rPr b="0" lang="en-GB" sz="2000" spc="-1" strike="noStrike">
                <a:solidFill>
                  <a:srgbClr val="000000"/>
                </a:solidFill>
                <a:latin typeface="Comic Sans MS"/>
              </a:rPr>
              <a:t> ends where it begins, with George and Lenny, alone by the p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is your response to the ending of the no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Your feelings about George’s decision to shoot Lenn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ays in which Steinbeck prepares us for this en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 writer chooses to end the story in this w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ether the ending suggests that the friendship between George and Lenny was point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pes and dreams help people to survive, even if they can never become re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rue is this for characters in </a:t>
            </a:r>
            <a:r>
              <a:rPr b="0" i="1" lang="en-GB" sz="3200" spc="-1" strike="noStrike">
                <a:solidFill>
                  <a:srgbClr val="000000"/>
                </a:solidFill>
                <a:latin typeface="Arial"/>
              </a:rPr>
              <a:t>Of Mice and Men</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Show how John Steinbeck explores the complex relationship between George and Lennie.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keeps them together, and the difficulties they each hav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brings out differences between the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y are different from other people on the far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Steinbeck’s purpose was in writing about this relations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mind yourself of the description of Lennie’s fight with Curley in the extract below.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 the importance of this passage in Of Mice and Me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different aspects of Lennie shown in the passag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at is revealed about the relationship between George and      Lennie, and about Curle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this passage links with other parts of the novel</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importance of the passage in the novel as a wh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Many characters in </a:t>
            </a:r>
            <a:r>
              <a:rPr b="0" i="1" lang="en-GB" sz="2400" spc="-1" strike="noStrike">
                <a:solidFill>
                  <a:srgbClr val="000000"/>
                </a:solidFill>
                <a:latin typeface="Comic Sans MS"/>
              </a:rPr>
              <a:t>Of Mice and Men</a:t>
            </a:r>
            <a:r>
              <a:rPr b="0" lang="en-GB" sz="2400" spc="-1" strike="noStrike">
                <a:solidFill>
                  <a:srgbClr val="000000"/>
                </a:solidFill>
                <a:latin typeface="Comic Sans MS"/>
              </a:rPr>
              <a:t> are shown to b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 loneliness in the novel.</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Characters who ar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 shows their lonelines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The differences and similarities between lonely character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the writer is saying about lonel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Find the passage in the novel where Lennie kills Curley’s wife, from the description of the barn to the point when Lennie leaves to go to the brush.</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the writer begins this passage with the dead puppy</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Lennie and Curley’s wife behave in the way they do</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makes the death seem unavoidabl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ether you were surprised when you first read about her death, and 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Of Mice and Men shows us that people can be cruel, or kind, or sometimes a mixture of bot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ompare three charact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ways in which the different characters are cruel, or kind, or a mixture of bo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y behave as they 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you respond to th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Steinbeck writes about them to make you respond this way</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09:25:18Z</dcterms:created>
  <dc:creator>svanvlo</dc:creator>
  <dc:description/>
  <dc:language>en-US</dc:language>
  <cp:lastModifiedBy>RomaK</cp:lastModifiedBy>
  <dcterms:modified xsi:type="dcterms:W3CDTF">2015-09-04T10:35:48Z</dcterms:modified>
  <cp:revision>8</cp:revision>
  <dc:subject/>
  <dc:title> Exam Questions on  Of Mice and Men </dc:title>
</cp:coreProperties>
</file>